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6A330-0583-4D8F-A326-BF1ACF1F1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66455-210D-449C-8DCF-AEB10CF34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73040-DDEE-4E8D-A793-06658FD80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81DFD-DB04-4E9A-A803-0D82E2C9F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B3C43-C3BC-4A25-B586-9A4700D42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719DF-4119-48D2-BD48-039161A0C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91E6C-760B-4268-8C76-651441468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A42AD-A10D-40F8-81F0-1D0D8DB50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CAA6C-8564-41D1-B094-55A5CFCAA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B87E5-8F55-47D0-BA9E-842284651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50575-CC43-40FD-877C-DC388EBC4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97B17-306B-4313-A916-9BAFDF97F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18F10-BBC5-45E2-96DB-CD05119E8D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250920" y="260280"/>
            <a:ext cx="8570880" cy="6289920"/>
            <a:chOff x="250920" y="260280"/>
            <a:chExt cx="8570880" cy="6289920"/>
          </a:xfrm>
        </p:grpSpPr>
        <p:pic>
          <p:nvPicPr>
            <p:cNvPr id="42" name="" descr=""/>
            <p:cNvPicPr/>
            <p:nvPr/>
          </p:nvPicPr>
          <p:blipFill>
            <a:blip r:embed="rId1"/>
            <a:stretch/>
          </p:blipFill>
          <p:spPr>
            <a:xfrm>
              <a:off x="250920" y="260280"/>
              <a:ext cx="1982520" cy="184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 txBox="1"/>
            <p:nvPr/>
          </p:nvSpPr>
          <p:spPr>
            <a:xfrm>
              <a:off x="826920" y="1341360"/>
              <a:ext cx="7632720" cy="4103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13657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gradFill rotWithShape="0">
                    <a:gsLst>
                      <a:gs pos="0">
                        <a:srgbClr val="9400ed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effectLst>
                    <a:outerShdw dist="153753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Arial Black"/>
                </a:rPr>
                <a:t>SATURDAY</a:t>
              </a:r>
              <a:endPara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  <a:ea typeface="Arial Black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gradFill rotWithShape="0">
                    <a:gsLst>
                      <a:gs pos="0">
                        <a:srgbClr val="9400ed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effectLst>
                    <a:outerShdw dist="153753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Arial Black"/>
                </a:rPr>
                <a:t>NIGHT </a:t>
              </a:r>
              <a:endPara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  <a:ea typeface="Arial Black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gradFill rotWithShape="0">
                    <a:gsLst>
                      <a:gs pos="0">
                        <a:srgbClr val="9400ed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effectLst>
                    <a:outerShdw dist="153753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Arial Black"/>
                </a:rPr>
                <a:t>MURDER</a:t>
              </a:r>
              <a:endPara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  <a:ea typeface="Arial Black"/>
              </a:endParaRPr>
            </a:p>
          </p:txBody>
        </p:sp>
        <p:pic>
          <p:nvPicPr>
            <p:cNvPr id="44" name="" descr=""/>
            <p:cNvPicPr/>
            <p:nvPr/>
          </p:nvPicPr>
          <p:blipFill>
            <a:blip r:embed="rId2"/>
            <a:stretch/>
          </p:blipFill>
          <p:spPr>
            <a:xfrm>
              <a:off x="7020000" y="5157720"/>
              <a:ext cx="1801800" cy="1392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06T19:54:36Z</dcterms:created>
  <dc:creator>bourgau</dc:creator>
  <dc:description/>
  <dc:language>en-US</dc:language>
  <cp:lastModifiedBy>bourgau</cp:lastModifiedBy>
  <dcterms:modified xsi:type="dcterms:W3CDTF">2013-05-06T20:02:23Z</dcterms:modified>
  <cp:revision>2</cp:revision>
  <dc:subject/>
  <dc:title>Diapositive 1</dc:title>
</cp:coreProperties>
</file>